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34A5-8899-43AA-8BDD-FAF0183E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AB2-BDAD-4DA3-B591-E21DE150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13B-DB9C-4BDB-ADE8-F9FC4AB0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4EA-9EE3-4BD3-B743-DBB64C50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30C-5DE7-47A0-ADF0-2EC8D3CA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4E4-7C4E-4884-BC96-AD11DD9F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BE7-462F-4B29-87C0-4FDC3FD9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558-2D3E-4598-B71E-758E7120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B2D-5ADD-4158-B994-D7E09A8D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25A-2627-490F-9853-0F2E5842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D32-2B42-4853-96DA-ECCAB17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E90-4D57-449E-A962-13BFE01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D8C-6FCE-4E43-BBDE-8B8497D4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C29D-4F8D-44B0-BE32-8AEEB8367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ary Concepts: Variation and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ominant and Recessive Allel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 Pool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ther important frequenc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can 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the change in genotype frequencies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Vari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ige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2006640" cy="252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0" y="3987720"/>
            <a:ext cx="3492360" cy="287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2374920" cy="19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5715000" y="4040280"/>
            <a:ext cx="3429000" cy="281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5"/>
          <a:stretch/>
        </p:blipFill>
        <p:spPr>
          <a:xfrm>
            <a:off x="3124080" y="4305240"/>
            <a:ext cx="3111480" cy="255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6"/>
          <a:stretch/>
        </p:blipFill>
        <p:spPr>
          <a:xfrm>
            <a:off x="3346560" y="2521080"/>
            <a:ext cx="2450880" cy="181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7"/>
          <a:stretch/>
        </p:blipFill>
        <p:spPr>
          <a:xfrm>
            <a:off x="6337440" y="0"/>
            <a:ext cx="2806560" cy="2908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upp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51080" y="1739880"/>
            <a:ext cx="6440400" cy="4813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y is phenotypic variation not as importa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and Terminolog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ardy-Weinberg Equilibriu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Five condi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5 viol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plural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u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 gamete per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error every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IV-AIDS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ffect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can mutations lead to big change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rmal fly hea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tennapedia fl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ephant seal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Drift Activ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Zygos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57:40Z</dcterms:created>
  <dc:creator>Cheryl A. Heinz</dc:creator>
  <dc:description/>
  <dc:language>en-US</dc:language>
  <cp:lastModifiedBy>LEGION2</cp:lastModifiedBy>
  <cp:lastPrinted>2003-02-06T20:57:53Z</cp:lastPrinted>
  <dcterms:modified xsi:type="dcterms:W3CDTF">2016-01-12T12:54:58Z</dcterms:modified>
  <cp:revision>28</cp:revision>
  <dc:subject/>
  <dc:title>Evolutionary Concepts: Variation and Mutation</dc:title>
</cp:coreProperties>
</file>